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D3BE7-4D04-4F6E-817B-372C8C58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32FC-6356-46CA-B7DB-C122D51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A1BC-4D55-4C2B-9404-C2050AB6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CA13-A94B-4AC1-9D4B-72E0D4A6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36A4-4FE9-49BA-BEF2-8D280542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8696-941D-4339-9612-F278AD95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2C55-0EE7-4CAB-93DF-5A43120E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D087-4E30-484C-BEA7-BBD73A29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061E-345E-4775-96DE-3914F734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017F-4815-47CA-917C-2C203F93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BD6B-1361-4D0F-A48F-05087364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FBC6-AFB2-430A-AA45-C12276F1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D5E2-047E-4FC6-ADE2-F9ACE383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F149-735A-44AE-894F-0C3B2C00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373F-9EF5-469D-B229-367361A2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62E9-1520-4334-BBEA-DE7B2D6F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C0DA-50A0-4F93-8B65-EC9E3F95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D838-BC5B-43C9-9BF7-5FC89555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C736-B4D6-413E-84E7-AEC7E75C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9AB3-366D-4D85-888B-1D5318E2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6A54-7821-485E-AD92-FD8AAE4E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326D-884A-468E-B0DD-29BBC44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C34E-F3C7-4565-957C-E3562862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D644-5687-4371-B281-71EACA3B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A307-D037-410B-8E2E-83E42DED7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71E1-4012-43E0-B6AF-A04B60DCD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"/>
              </a:rPr>
              <a:t>Beowulf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wo things does Beowulf bring back after defeating Grendel’s m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CorShape1"/>
          <p:cNvSpPr/>
          <p:nvPr/>
        </p:nvSpPr>
        <p:spPr>
          <a:xfrm rot="10800000">
            <a:off x="122400" y="4876920"/>
            <a:ext cx="334800" cy="3045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ms of Grendel and Grendel’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s of Grendel and Grendel’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dden tr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ads of Grendel and Grendel’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186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one of Beowulf’s final wis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CorShape1"/>
          <p:cNvSpPr/>
          <p:nvPr/>
        </p:nvSpPr>
        <p:spPr>
          <a:xfrm rot="10800000">
            <a:off x="151920" y="2742840"/>
            <a:ext cx="381240" cy="3049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buried with the tr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s the Thanes to build him a b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buried with the dr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the dragon’s head mou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195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John Gardner’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ende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s the raid on Hrothgar’s hall diffe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en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nster does not eat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v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en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the action from the monster’s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owu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victim is individually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owulf shows the action from Beowulf’s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03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pic usually has all of the following elements except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CorShape1"/>
          <p:cNvSpPr/>
          <p:nvPr/>
        </p:nvSpPr>
        <p:spPr>
          <a:xfrm rot="10800000">
            <a:off x="177480" y="3990960"/>
            <a:ext cx="25380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s and godd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, elevat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ic 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xture of myth, legend, and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12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he reason why the dragon attacked the Gea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CorShape1"/>
          <p:cNvSpPr/>
          <p:nvPr/>
        </p:nvSpPr>
        <p:spPr>
          <a:xfrm rot="10800000">
            <a:off x="151920" y="4038480"/>
            <a:ext cx="381240" cy="3175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hu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ed to take over Gea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ed to kill Beow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ef stole the dragon’s jewele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21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Beowulf want the barrow built fo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CorShape1"/>
          <p:cNvSpPr/>
          <p:nvPr/>
        </p:nvSpPr>
        <p:spPr>
          <a:xfrm rot="10800000">
            <a:off x="151920" y="1905120"/>
            <a:ext cx="304920" cy="3045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mind people to his grea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mind Wiglaf of his du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rve as a monument to King Hroth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of the new Christian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30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Grendel’s mother attack Her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CorShape1"/>
          <p:cNvSpPr/>
          <p:nvPr/>
        </p:nvSpPr>
        <p:spPr>
          <a:xfrm rot="10800000">
            <a:off x="228240" y="4724280"/>
            <a:ext cx="304920" cy="3556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nts to take over th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nts to kill Hroth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venge Grendel’s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39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Unferth bring up Beowulf’s swimming match with Brec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CorShape1"/>
          <p:cNvSpPr/>
          <p:nvPr/>
        </p:nvSpPr>
        <p:spPr>
          <a:xfrm rot="10800000">
            <a:off x="228240" y="3580920"/>
            <a:ext cx="228600" cy="3049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s to show Beowulf’s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proud of Beow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jealous of Beow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s everyone to know Beowulf’s l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48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Welthow’s role in Her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CorShape1"/>
          <p:cNvSpPr/>
          <p:nvPr/>
        </p:nvSpPr>
        <p:spPr>
          <a:xfrm rot="10800000">
            <a:off x="223560" y="17427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the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Beowulf’s w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Grendel’s w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Beowulf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57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hat does Beowulf attribute his victory in defeating Grendel and Grendel’s m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3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64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CorShape1"/>
          <p:cNvSpPr/>
          <p:nvPr/>
        </p:nvSpPr>
        <p:spPr>
          <a:xfrm rot="10800000">
            <a:off x="223560" y="34956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oth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p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CorShape1"/>
          <p:cNvSpPr/>
          <p:nvPr/>
        </p:nvSpPr>
        <p:spPr>
          <a:xfrm rot="10800000">
            <a:off x="228240" y="4190760"/>
            <a:ext cx="228600" cy="2156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like poem that explores the speaker’s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ef story that teaches a moral about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hat focuses on a single in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narrative poem that describes the deeds of her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114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Beowulf respond to Hrothgar’s request to defeat Grendel’s m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CorShape1"/>
          <p:cNvSpPr/>
          <p:nvPr/>
        </p:nvSpPr>
        <p:spPr>
          <a:xfrm rot="10800000">
            <a:off x="126720" y="1676520"/>
            <a:ext cx="406440" cy="3427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ready and conf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scared and un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oesn’t want to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aves and never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75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true about Wigl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1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82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CorShape1"/>
          <p:cNvSpPr/>
          <p:nvPr/>
        </p:nvSpPr>
        <p:spPr>
          <a:xfrm rot="10800000">
            <a:off x="55080" y="285408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bandons Beow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elps Beowulf defeat the dr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ells Beowulf that the troops will desert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unworthy to succeed to the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quotations from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owul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tains a ke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CorShape1"/>
          <p:cNvSpPr/>
          <p:nvPr/>
        </p:nvSpPr>
        <p:spPr>
          <a:xfrm rot="10800000">
            <a:off x="131400" y="182844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l at once the greedy she-wolf 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ast he saw the mud of the botto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hunting another/Dead mother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ndel’s mother/Is hidden in her terrible home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293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rchetyp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CorShape1"/>
          <p:cNvSpPr/>
          <p:nvPr/>
        </p:nvSpPr>
        <p:spPr>
          <a:xfrm rot="10800000">
            <a:off x="167760" y="2590920"/>
            <a:ext cx="289080" cy="3045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character of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yal and strong by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 type that recurs in literature from many cultures and time 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llain of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123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cient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ep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ere passed down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CorShape1"/>
          <p:cNvSpPr/>
          <p:nvPr/>
        </p:nvSpPr>
        <p:spPr>
          <a:xfrm rot="10800000">
            <a:off x="223560" y="232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ritte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132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Beowulf kill Gren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CorShape1"/>
          <p:cNvSpPr/>
          <p:nvPr/>
        </p:nvSpPr>
        <p:spPr>
          <a:xfrm rot="10800000">
            <a:off x="136080" y="3428640"/>
            <a:ext cx="320760" cy="3063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Herot from being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the treasure in Grendel’s l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Hrothgar and the Danes from the mon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in the heart of a prin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141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Beowulf fight Grendel with only his bare h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Countdown"/>
          <p:cNvGrpSpPr/>
          <p:nvPr/>
        </p:nvGrpSpPr>
        <p:grpSpPr>
          <a:xfrm>
            <a:off x="8381880" y="1803240"/>
            <a:ext cx="634680" cy="3809880"/>
            <a:chOff x="8381880" y="1803240"/>
            <a:chExt cx="634680" cy="3809880"/>
          </a:xfrm>
        </p:grpSpPr>
        <p:sp>
          <p:nvSpPr>
            <p:cNvPr id="145" name="CDLine"/>
            <p:cNvSpPr/>
            <p:nvPr/>
          </p:nvSpPr>
          <p:spPr>
            <a:xfrm>
              <a:off x="8699400" y="2300040"/>
              <a:ext cx="0" cy="3313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CDBall"/>
            <p:cNvSpPr/>
            <p:nvPr/>
          </p:nvSpPr>
          <p:spPr>
            <a:xfrm>
              <a:off x="8381880" y="1803240"/>
              <a:ext cx="634680" cy="55224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26000 h 552240"/>
                <a:gd name="textAreaBottom" fmla="*/ 42624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CorShape1"/>
          <p:cNvSpPr/>
          <p:nvPr/>
        </p:nvSpPr>
        <p:spPr>
          <a:xfrm rot="10800000">
            <a:off x="177840" y="3200400"/>
            <a:ext cx="355680" cy="3556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hands were made of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del was magically protected by weap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owulf wants to prove his br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owulf wants to prove that the Geats are better than the D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Beowulf d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CorShape1"/>
          <p:cNvSpPr/>
          <p:nvPr/>
        </p:nvSpPr>
        <p:spPr>
          <a:xfrm rot="10800000">
            <a:off x="152280" y="1523880"/>
            <a:ext cx="393840" cy="3938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killed as he and Wiglaf fight the dr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killed by his own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del’s mother slays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ragon kills him as Beowulf goes out unarmed to fight the mon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159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aves Beowulf’s life when he is battling Grendel’s m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CorShape1"/>
          <p:cNvSpPr/>
          <p:nvPr/>
        </p:nvSpPr>
        <p:spPr>
          <a:xfrm rot="10800000">
            <a:off x="223560" y="232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ven mail 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168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Beowulf kill Gren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CorShape1"/>
          <p:cNvSpPr/>
          <p:nvPr/>
        </p:nvSpPr>
        <p:spPr>
          <a:xfrm rot="10800000">
            <a:off x="223560" y="17427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007d"/>
          </a:solidFill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ff his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ff his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bed 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ff his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Countdown"/>
          <p:cNvGrpSpPr/>
          <p:nvPr/>
        </p:nvGrpSpPr>
        <p:grpSpPr>
          <a:xfrm>
            <a:off x="8381880" y="1238400"/>
            <a:ext cx="634680" cy="4380840"/>
            <a:chOff x="8381880" y="1238400"/>
            <a:chExt cx="634680" cy="4380840"/>
          </a:xfrm>
        </p:grpSpPr>
        <p:sp>
          <p:nvSpPr>
            <p:cNvPr id="177" name="CDLine"/>
            <p:cNvSpPr/>
            <p:nvPr/>
          </p:nvSpPr>
          <p:spPr>
            <a:xfrm>
              <a:off x="8699400" y="1809720"/>
              <a:ext cx="0" cy="380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CDBall"/>
            <p:cNvSpPr/>
            <p:nvPr/>
          </p:nvSpPr>
          <p:spPr>
            <a:xfrm>
              <a:off x="8381880" y="1238400"/>
              <a:ext cx="634680" cy="63468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4680"/>
                <a:gd name="textAreaBottom" fmla="*/ 48996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cccc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02:39Z</dcterms:created>
  <dc:creator>DolenMS</dc:creator>
  <dc:description/>
  <dc:language>en-US</dc:language>
  <cp:lastModifiedBy>DolenMS</cp:lastModifiedBy>
  <dcterms:modified xsi:type="dcterms:W3CDTF">2008-02-12T19:32:33Z</dcterms:modified>
  <cp:revision>5</cp:revision>
  <dc:subject/>
  <dc:title>Beowulf</dc:title>
</cp:coreProperties>
</file>